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5.jpeg" ContentType="image/jpeg"/>
  <Override PartName="/ppt/media/image7.jpeg" ContentType="image/jpeg"/>
  <Override PartName="/ppt/media/image5.wmf" ContentType="image/x-wmf"/>
  <Override PartName="/ppt/media/image2.wmf" ContentType="image/x-wmf"/>
  <Override PartName="/ppt/media/image24.jpeg" ContentType="image/jpeg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стоматологије</a:t>
            </a:r>
            <a:br>
              <a:rPr sz="2800"/>
            </a:br>
            <a:br>
              <a:rPr sz="2800"/>
            </a:b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9: Стоматолошки материјал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Гордана П. Рад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062000"/>
          <a:ext cx="8229600" cy="5334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бо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ска мас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. топљења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C</a:t>
                      </a: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. кључања 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C</a:t>
                      </a: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ина (</a:t>
                      </a: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m</a:t>
                      </a:r>
                      <a:r>
                        <a:rPr b="0" lang="sr-Latn-C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E (10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¯</a:t>
                      </a:r>
                      <a:r>
                        <a:rPr b="0" lang="sr-Latn-C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C</a:t>
                      </a: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ез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љен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иц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о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м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,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,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т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7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бал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ибд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д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2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б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м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та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фар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диј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,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9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е (валенционе)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ивно-ковалент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39337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9640" y="386064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молекулск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ларне 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исперзионе 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Водоничн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наста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л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а енергија јонизације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ују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редук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●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26920" y="1197000"/>
          <a:ext cx="36738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36738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"/>
          <p:cNvGraphicFramePr/>
          <p:nvPr/>
        </p:nvGraphicFramePr>
        <p:xfrm>
          <a:off x="826920" y="2637000"/>
          <a:ext cx="5616720" cy="5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637000"/>
                    <a:ext cx="56167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900000" y="3284640"/>
          <a:ext cx="619308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284640"/>
                    <a:ext cx="619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5" descr="SL1"/>
          <p:cNvPicPr/>
          <p:nvPr/>
        </p:nvPicPr>
        <p:blipFill>
          <a:blip r:embed="rId7"/>
          <a:stretch/>
        </p:blipFill>
        <p:spPr>
          <a:xfrm>
            <a:off x="826920" y="3933720"/>
            <a:ext cx="6840720" cy="798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6"/>
          <p:cNvSpPr/>
          <p:nvPr/>
        </p:nvSpPr>
        <p:spPr>
          <a:xfrm>
            <a:off x="3399480" y="515772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560" y="1916280"/>
            <a:ext cx="5257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:      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са јонском везом обично немају особине неопходне за стоматолошке материјале и немају значаја у стоматоло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веза је карактеристична за соли независно да ли су настале из једноставних неорганских киселина или комплексних полимерних органских киселина. Јавља се у молеку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-фосф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ментима (цинк-фосфат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цемент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29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К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валентна ве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астај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твар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ед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иш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заједничк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елект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ск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а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а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чим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пстиж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елект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с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фигурациј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лемени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г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оже 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еполар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змеђу атома истог е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ларн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између атома различитих елеме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д неполарних веза заједнички електронски пар се налази на подједнаком растојању од оба ат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355680"/>
                <a:tab algn="l" pos="482760"/>
                <a:tab algn="l" pos="546120"/>
                <a:tab algn="l" pos="266688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д поларних ковалентних веза заједнички електронски пар се налази ближе електронегативнијем а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ост је способност неког атома да привуче електронски пар из ковалентне везе ка себи и постане делимично негативно наелектри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молекула се приказу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ним момен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d · 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који садрже поларно-ковалентне везе као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, HCl, i C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јентишу се у електричном пољу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 се може раскинути на два на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литичко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актеристична за неполарне ковалентне везе, раскида се веза подједнако на два електрона при чему настају слободни електро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литичко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ступљено код поларних молекула, оба електрона прелазе на електронегативнији атом при чему настају јо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са овом везом имају ниске тачке топљења (ниже од 300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ивно-ковалент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7120" y="1500120"/>
            <a:ext cx="846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ивно-ковалентна веза је донорско акцепторска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а је за комплексна једињења изграђена од централног јона метала и лиг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јон метала су углавном прелазни метали и они представљају акцепторе електронских па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су молекули, јони или атоми који имају слободне електронске парове и у координативно-ковалентној вези представљају доноре електронских парова. У зависности од броја електронских парова које могу предати јону метала могу бити монодентатни, бидентатни, тридентатни ит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представља број монодентатних лиганада које јон метала може везати за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омплекс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ML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8000" spc="-1" strike="noStrike" baseline="30000">
                <a:solidFill>
                  <a:srgbClr val="000000"/>
                </a:solidFill>
                <a:latin typeface="Arial"/>
              </a:rPr>
              <a:t>z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8960" y="388620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нтр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50928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ган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31840" y="396252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г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035760" y="243828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електрис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853280" y="1928880"/>
            <a:ext cx="61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V="1">
            <a:off x="2514600" y="35809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V="1">
            <a:off x="3733920" y="3504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H="1" flipV="1">
            <a:off x="4419720" y="365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5486400" y="25909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358720" y="5029200"/>
            <a:ext cx="47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[Fe(CN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[Cu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а је за мет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 из атома формирају електронски обл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метала чини кристална решетка у чијим се чворовима налазе чврсто спаковани електропозитивни јони између којих се креће облак елект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еза делује у свим прав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чно је јака што објашњава високе тачке кључ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јај површине метала као и њихова обојеност такође се објашњавају способношћу невезивних електрона да абсорбују или реемитују светлост одређених таласних ду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атом окарактерисан је са два бро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дним бројем (атомски број)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је једнак броју електрона у електронском омотачу и броју протона у језг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сеним бројем (А) који представља збир броја протона и неутрона у језгру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9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9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9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молекулске с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а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етрич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енит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оне 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71680" y="1214280"/>
            <a:ext cx="835812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 ЈОН – ДИПОЛ ИНТЕРАКЦИЈЕ ( ВЕЗ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стваруј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зме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ђ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ерманентн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ач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стал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еђумолекулск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Зави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стојањ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зме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ђ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стојање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ач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влач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електрисањ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електрис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она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ач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влачн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но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омен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359000"/>
                <a:tab algn="l" pos="2209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оменат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ач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влач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1571760"/>
            <a:ext cx="878688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 ДИПОЛ – ДИПОЛ ИНТЕРАКЦИЈЕ (ВЕЗ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 ДИПОЛ – ИНДУКОВАНИ ДИПОЛ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дукпва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теракциј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ствар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4. ИНДУКОВАНИ ДИПОЛ – ИНДУКОВАНИ ДИПОЛ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ИМЕР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инд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инд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интеракциј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76320"/>
                <a:tab algn="l" pos="254160"/>
                <a:tab algn="l" pos="100332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Разл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ито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агрегатно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стање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халогених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елемената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(на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собној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7429680" y="4599000"/>
          <a:ext cx="10285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29680" y="4599000"/>
                    <a:ext cx="1028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5"/>
          <p:cNvSpPr/>
          <p:nvPr/>
        </p:nvSpPr>
        <p:spPr>
          <a:xfrm>
            <a:off x="8001000" y="600084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CS" sz="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434000" y="5572080"/>
            <a:ext cx="27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CS" sz="1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858080" y="507204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CS" sz="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686000" y="56437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6429240" y="2143080"/>
          <a:ext cx="221472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2143080"/>
                    <a:ext cx="22147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1"/>
          <p:cNvSpPr/>
          <p:nvPr/>
        </p:nvSpPr>
        <p:spPr>
          <a:xfrm>
            <a:off x="311760" y="3786120"/>
            <a:ext cx="704376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одо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з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следиц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бнормал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наш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едиње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зличит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грегат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тањ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налогн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ред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тачк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топљ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ред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тачк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ључ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искоз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растворљиво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о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85840" y="2071800"/>
            <a:ext cx="657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998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себ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рс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дип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теракциј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ве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спостављ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зме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ларн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олекул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садр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одоник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ковалент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за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м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ато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лик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електронегатив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F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57120" y="5857920"/>
            <a:ext cx="64296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нтермолекул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одонич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з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између моле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77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трамолекул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одонич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ез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у оквиру једног моле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неорганск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а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арна једињења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 једињења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 су једињења кисеоника са осталим елементима периодног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о стање кисеоника је најчешће 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у којима је кисеоник са оксидационим стањем -1 називају се пероксиди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у којима је кисеоник са оксидационим стањем -1/2 називају се супероксид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и могу 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ис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мфоте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утр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и окс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и оксиди су углавном оксиди 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а водом дају базе (анхидриди су б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→  2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са киселином дају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HCl → 2 NaCl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са киселим оксидима дају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  C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и оксиди који улазе у састав стоматолошких материјала, првенствено керамичких материјала и цемента су: натријум-оксид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лијум-окс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гнезијум-окс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O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лцијум-окс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O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измут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акар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окс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 окс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 оксиди су једињења неметала са кисео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са водом дају киселине па се називају анхидриди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базама дају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→   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акцији са базним оксидима дају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 CaO   →   Ca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иселе оксиде који су директно или индиректно значајни за стоматолошку праксу спадају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и окс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и оксиди могу реаговати и са киселинама и са баз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особине и киселих и базних ок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мфотерне оксиде спадају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O, ZnO, SnO, A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r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→  Zn(OH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 +  2 HCl  →  Zn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  +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→  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оксиди с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ренијусовој теорији, киселине су једињења која дисоцијацијом у воденом раствору од позитивних јона дају сам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нијум-јон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 H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N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 се могу подел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јачини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броју водоникових атома које дају при дисоцијацији могу се поделити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ро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ро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тич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28760" y="12139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атом изграђен је од језгра и електронског омот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езгру су смештени протони и неутр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лектронском омотачу су смештени електр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 су у омотачу распоређени по енергетским нивоима, а број нивоа одређен је главним квантним броје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ниво садржи одрђене поднивое који су окарактерисани споредн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рбиталним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нтни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 д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ом поднивоу налазе се орбитале које су окарактерисане магнетним квантним бројем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може имати вредности од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 представља део простора у коме је највећа вероватноћа налажења електрона. Орбитале могу бит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иселине подлежу потпуно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и у воденим раствор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→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 киселине дисосу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о у воденом раствору и та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а се приказује повра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слабе киселине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18200" y="2357280"/>
            <a:ext cx="379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924280"/>
          <a:ext cx="4038480" cy="24573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ел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хлорна кисел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O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хлор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-водонич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мо-водонич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ми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до-водонич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ди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пор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643280" y="3500280"/>
          <a:ext cx="4038840" cy="245772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ели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та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sr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и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по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sr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sr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и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љ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ник-сулф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оводонич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и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ћет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sr-Latn-CS" sz="1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цет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712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sted-Lorijev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ј теорији киселине су једињења која су донори про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+   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l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тој теорији киселина и база вода испољава амфотерни карактер што значи да се понаша и као киселина и као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 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→   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OH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не киселине су једињења која садже карбоксилну функционалну груп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COO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ују се општом формуло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структури угљоводоничног остатка се могу поделит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ћ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клич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фатичне  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CO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Ar-CO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ис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упституис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214280"/>
            <a:ext cx="82296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клич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вља                  Сирћетна                         Акрилна                         Крото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                киселина                          киселина                       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карбоксилна      Бензоева       1-нафталенкарбокси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                     киселина            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500040" y="1643040"/>
          <a:ext cx="830268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643040"/>
                    <a:ext cx="83026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3"/>
          <p:cNvGraphicFramePr/>
          <p:nvPr/>
        </p:nvGraphicFramePr>
        <p:xfrm>
          <a:off x="2411280" y="3933720"/>
          <a:ext cx="4224600" cy="15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422460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е карбоксил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пропенска киселина                     2-буте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рилн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отон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крилна киселина                  мале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1500120" y="1928880"/>
          <a:ext cx="572148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928880"/>
                    <a:ext cx="57214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2214720" y="3714840"/>
          <a:ext cx="419868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3714840"/>
                    <a:ext cx="41986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ренијусовој теорији, базе су једињења која дисоцијацијом у воденом раствору од негативних јона дају само 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идроксидне јо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→  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OH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sted-Lorijev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ј теорији базе су једињења која су акцептори про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+   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→  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l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       б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се могу поделити према јачини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( базе алкалних и земноалкалних метала осим берилијум-хидрокс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се могу поделити према броју хидроксидних група на монокиселе, двокиселе, полики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су сложена једињења која настају процесом неутрализације тј. реакцијом између киселине и 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могу б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е  (настају потпуном заменом водоникових атома из киселине атомом метала из баз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2NaOH   →  Na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 2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сулф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 (настају непотпуном заменом водоникових атома из киселине атомом метала из баз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NaOH   →  NaHSO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 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хидрогенсулф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е (настају непотпуном заменом хидроксидних група из базе киселинским остатком из киселин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 +    Ca(OH)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 CaOHCl   +    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и-калцијум-хлор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везивања стоматолошк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изација је реакција између киселина и база при чему настају со и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 Ca(OH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→  CaC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2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неутрализација је и реакција кисеог оксида и базе као и базног оксида и кисе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→   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HCl → 2 NaCl  +   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изација такође подразумева и процес везивања цинк-поликакрбоксилатног ц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акрилна кисе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-полиакри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500120" y="2357280"/>
          <a:ext cx="60739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357280"/>
                    <a:ext cx="60739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ација је процес стварања хелатних (комплексних) 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 процесом долази до стварања координативно-ковалент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генол                                          цинк-еугено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285920" y="2928960"/>
          <a:ext cx="63118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928960"/>
                    <a:ext cx="63118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а електрона по електронским ниво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58920" y="2287440"/>
          <a:ext cx="6985080" cy="1649520"/>
        </p:xfrm>
        <a:graphic>
          <a:graphicData uri="http://schemas.openxmlformats.org/drawingml/2006/table">
            <a:tbl>
              <a:tblPr/>
              <a:tblGrid>
                <a:gridCol w="1820880"/>
                <a:gridCol w="1312920"/>
                <a:gridCol w="1181160"/>
                <a:gridCol w="1255680"/>
                <a:gridCol w="14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сл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л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иво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p,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p, d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рбит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3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3, 5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електр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57"/>
          <p:cNvSpPr/>
          <p:nvPr/>
        </p:nvSpPr>
        <p:spPr>
          <a:xfrm>
            <a:off x="915120" y="443700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вака орбитала може примити два електрона супротног сп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8"/>
          <p:cNvGraphicFramePr/>
          <p:nvPr/>
        </p:nvGraphicFramePr>
        <p:xfrm>
          <a:off x="1692360" y="4941720"/>
          <a:ext cx="825480" cy="8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941720"/>
                    <a:ext cx="82548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је повезивање једноставних молекула (мономе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се може врш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оним реакциј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-радикал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адициона полимер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адициона полимер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ационим реакцијама (поликондензац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полимер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је процес активације при чему настају активне врсте слободни радик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обензоев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је процес инициј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метакрилат          мономерни ради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928800" y="2643120"/>
          <a:ext cx="616248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643120"/>
                    <a:ext cx="61624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857160" y="4572000"/>
          <a:ext cx="674712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4572000"/>
                    <a:ext cx="67471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фаза је процес пропаг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фаза је процес терминације у коме настаје нереактивни молекул тзв. (мртви ланци) који је се не могу даље полимеризов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857160" y="1785960"/>
          <a:ext cx="489132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85960"/>
                    <a:ext cx="489132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ациона полимер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ациона полимеризација се заснива на процесу везивања два молекула при чему настаје већи 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кондензационе полимеризације код стоматолошких материјала је стварање силика-гела на површини честице силикатног и глас-јономерног ц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 полимерни ланци могу међусобно реаговати при чему долази до њиховог умреж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ежени силиконски пол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1285920" y="1000080"/>
          <a:ext cx="6460920" cy="532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000080"/>
                    <a:ext cx="646092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полимери-састављени од истих мономерних једи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-А-А-А-А-А-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тил-метакри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и-састављени од различитих мономерних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-Б-А-Б-А-Б-А-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 из метил-метакрила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-акри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857160" y="2357280"/>
          <a:ext cx="430704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357280"/>
                    <a:ext cx="430704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"/>
          <p:cNvGraphicFramePr/>
          <p:nvPr/>
        </p:nvGraphicFramePr>
        <p:xfrm>
          <a:off x="785880" y="4286160"/>
          <a:ext cx="4306680" cy="20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4286160"/>
                    <a:ext cx="43066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везивања полимери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арни када су све мономерне јединице везане у н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ати код којих су линеарни ланци везани на неколико места ковалентним везама које се називају унакрс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ланца полиметил-метакрилата умрежена етилен-гликол-диметакрил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928800" y="2786040"/>
          <a:ext cx="430668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786040"/>
                    <a:ext cx="430668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зија стоматолошких материј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зија је назив за процес пропадања материјала под утицајем физичких, хемијских или комбинованих фа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зија може 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– то је директна хемијска реакција метала и неметалних супстанци (оксидација, халогеновање и сулфириз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хемијска корозија – је тип корозије која се још назива и влажна корозија јер је неопходно и присуство воде или других течних е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хемијска коро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хемијски процес оксидације метала је најчешћи тип ко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је процес отпуштања елект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је процес примања елект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тип корозије је рђање гвожђа, а започиње оксидацијом гвожђа коју прати редукција кисеоника из ваздуха у присуству в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 →  Fe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 2e¯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оксидаци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 2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 4e¯ →    4OH¯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реду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а реакција рђања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Fe  +  3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6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→    2F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ни потенцијал и галвански 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760" y="1714680"/>
          <a:ext cx="8229600" cy="4449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. потенциј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. потенциј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д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м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sr-Latn-C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а конфигу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а конфигурација атома је најстабилније тј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о стање атома у коме се електрони налазе у орбиталама најниже енерг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атому доведе енергија електрони прелазе у орбитале више енергије и такво стање се зове побуђено или ексцитовано ст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попуњавања орбитала је према растућим енергиј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ванска коро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озија различитих метал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важан тип електрохемијске корозије која долази када се различити метали нађу у директном физичком контакту један с другим. Пример за такву врсту денталне корозије су две сепаратне надокнаде од хемијски различитих ме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терогени саста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други тип галванске корозије а у вези је  са хетерогеним саставом металне површине. Такав пример су еутектичке легуре. Њихова отпорност на корозију је знатно мања у односу на легуре које представљају чврсте раст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озија изазвана притиском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корозија као последица штетног деловања притиска који се јавља услед замора материјала који се налази у корозионој сре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озија концентрационе средин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јчешће јавља у виду корозија у напрслини (пукотини) до које долази када постоје промене у концентрацији присутних електролита или у саставу електролита унутар сист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1119960" y="53737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 пут галванске стру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214880" y="5072040"/>
            <a:ext cx="492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а илустрација испуна која приказује два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 струје између сполашње површине  изложене пљувач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нутрашње површине изложене ткивним течност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182600" y="1981080"/>
            <a:ext cx="2121120" cy="298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>
            <a:lum contrast="40000"/>
          </a:blip>
          <a:srcRect l="7401" t="3109" r="14954" b="-1945"/>
          <a:stretch/>
        </p:blipFill>
        <p:spPr>
          <a:xfrm>
            <a:off x="5148360" y="1844640"/>
            <a:ext cx="25668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зија у напрслини (пукот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корозије у напрслини се може објаснити на следећи на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– површина метала је анода у контакту са раствором електрол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  →  4 M   +   4e¯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 реакција оксидације и раствар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прслини испуњеној водом у којој је растворен кисеоник долази до катодне реакције реду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 2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 4e¯ →    4OH¯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а  реакција редукције и талож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јони награђени у процесу анодне оксидације и хидроксидни јони из катодне редукције граде нерастворни хидроксид који се таложи на дну напрс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OH¯   →   M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корозије настаје када се утроши кисеоник при чему сама пукотина почиње да се понаша као анода а околни метал као катода чиме се процес корозије настављ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њење, корозија и пасивизација 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њење (промена боје) је промена боје која најчешће настаје без промене хемијског састава површинског слоја. То је последица формирања талога различите природе. Пример таквог талога је камена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изација метала је тамњење изазвано хемијским променама површине стварањем сулфида, хлорида или других једињења реакцијом метала са супстанцама из оралне сре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за је процес претварања електричне енергије у хемиј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варање електричне у хемијску енергију се врши пропуштњем електричне струје кроз раствор или растоп е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а електрична струја условљава реакције оксидо-реду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зом воденог раствора бакар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хлорида на катоди се издваја бакар, а на аноди се издваја молекул хл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e¯   →    C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а реакција реду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l¯  →   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2e¯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 реакција оксид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зубној техници за добијање металних превл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ализирање отис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лирање металног скелета парцијалне протез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428920" y="2000160"/>
            <a:ext cx="3614760" cy="32911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3007800" y="52862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 за електрол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ни систем еле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елементи су распоређени у периодном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иодном систему пост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ризонтални низов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називају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и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тикални низов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називају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иод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одређују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дњи (валентни) ниво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попуњава код е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ују број електрона у последњем електронском нивоу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број валентних електр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елемент тежи да постигне стабилну електронску конфигурацију племенитог гаса отпуштањем електрона из валентног нивоа или примањем електрона у циљу попуњавања тог ниво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ни систем еле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81500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ија јонизације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на количина енергије коју треба довести атому у гасовитом стању да би он отпустио један електрон. Она расте у периоди идући с лева на десно, а опада у групи идући одозго на д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талпија везивања електрона (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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омена енталпије при везивању једног електрона од стране атома у гасној фа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+   е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А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 електрона може бити ендотерман или егзотерман процес. У неорганској хемији се врло често користи израз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ектронски афинитет А</a:t>
            </a:r>
            <a:r>
              <a:rPr b="1" lang="sr-CS" sz="1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особина атома чија је вредност супротног знака од одговарајуће енталпије везив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иоди идући с лева на десно афинитет према електрону расте, а у групи идући одозго на доле опа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од значаја за стоматолог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09 елемената у периодном систему, приближно 85 се могу класификовати као м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оматологији метали заједно с керамиком, полимерима и композитима представљају једну од четири најважније класе материјала који се употребљавају за рестаурацију изгубљених зуба и потпорних тк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 проводници топлоте и електриц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кују и извлаче у ж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прови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одбијају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те особине се објашњавају начином везивања атома у металној кристалној решетки односно присуством слободних електрона у металној в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метала су још и тврдоћа, термичко ширење, већа гус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1-29T20:33:10Z</dcterms:modified>
  <cp:revision>64</cp:revision>
  <dc:subject/>
  <dc:title>Slide 1</dc:title>
</cp:coreProperties>
</file>